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DFE-B449-4374-8519-5D3236A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B00-EEA1-44FD-974E-B656B43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06F-772E-4F70-8A8C-BF301FF7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637-60AB-488A-BDC0-03F509C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BFC1-88C0-48AD-B430-FAC6924F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A1979-69D3-4C7F-9CB9-B95DF6E0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D1185-C3E9-4CBD-BE7A-CF250A80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862E1-442C-471E-AFC5-8BB4F7DD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BCEF-40E8-41C1-8788-38C2705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5B6D-9FF7-439F-AE44-8BC35D9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2AE6-99B1-4ACC-B0C1-3470643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F6D-16ED-43E3-B2FE-3BCB4C3D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FCFAD-F70D-41B7-B20A-2BEA9A5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58EFA-CFD7-40F4-875F-8C301CE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0966E-668F-422C-BA83-6E6C7C5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D426-D62F-45FA-BEDF-90861D8E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1DB2-001F-4054-81B5-1004A915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B0A-F5FA-4E13-9850-0A35F156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0AB-2799-41AE-8091-9E1614E0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3DE-5724-4E52-8F5F-A56965B2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7FB-4E1E-4446-ABDB-FDB3129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D32-7A60-4785-86D8-4E0C743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30D-C71C-4799-80AC-263730C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DFB-2607-4860-8D5E-CC2C1D9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1108-6A2D-4D88-80EF-044BF8616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F93-2124-4324-8876-34AA1D3F6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e3e3ff"/>
                </a:solidFill>
                <a:latin typeface="Arial"/>
              </a:rPr>
              <a:t>Agenția de turism PLIMBĂREȚU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e3e3ff"/>
                </a:solidFill>
                <a:uFillTx/>
                <a:latin typeface="Arial"/>
              </a:rPr>
              <a:t>Destinați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o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i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dap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Mosc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a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agin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1:30:31Z</dcterms:created>
  <dc:creator>AS</dc:creator>
  <dc:description/>
  <dc:language>en-US</dc:language>
  <cp:lastModifiedBy>AS</cp:lastModifiedBy>
  <dcterms:modified xsi:type="dcterms:W3CDTF">2010-01-05T21:49:16Z</dcterms:modified>
  <cp:revision>2</cp:revision>
  <dc:subject/>
  <dc:title>Agenția de turism PLIMBĂREȚUL</dc:title>
</cp:coreProperties>
</file>